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E08-7AB2-474A-B545-21B6C626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428-1300-4607-8B56-5B2704CE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09B-BED4-49E7-8D6A-21F604E2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111-7C06-4663-8BFE-BBB19B74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79C-5694-4F21-868C-7F3D5394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229-7DE7-490E-80A1-21C9AD8A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D40-4B0E-4B15-9F87-8EAFADD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067-C3A5-4BAD-BD5B-014BF5D4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673-FCCB-4CBC-B912-E932C3D2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A14-78CC-4188-9452-A6DBFB6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83A-9575-48AE-92F5-3E4BB1A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3C9-8B72-4550-BF2F-9089BCE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76F-A3C3-4A94-8052-AB880080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5562720"/>
            <a:ext cx="297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студентка 616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дыр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87840"/>
            <a:ext cx="845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-игры // Схв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хватка — городская приключенческая игра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и получают задания на сайте. В них зашифрованы места в городе или окрестностях. Разгадав место и приехав туда, командам нужно найти игровой код (например: EN1234567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д может быть просто написан на трубе в подвале заброшенного здания, подвешен на верхушке дерева, утоплен в речке. Код на месте может выдавать агент в обмен на что-нибудь, что участники должны сделать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быв код, команды вводят его на игровом сайте, и если код верен, получают следующее задание. Так, от уровня к уровню, команды проходят игру. Победитель (тот, кто быстрее всех выполнил все задания) получает призовой фон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авшись поздно вечером, игра, как правило, продолжается пять-семь час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553080" y="4952880"/>
            <a:ext cx="2167200" cy="16239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540360"/>
            <a:ext cx="7848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-игры // 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очки — увлекательно-познавательное автомобильное ориентирование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астники получают задания на сайте. В них зашифрованы места в городе или окрестностях. Разгадав место и приехав туда, командам нужно найти игровой код. В отличие от Схватки, код на месте добыть не сложно, он находится на видном месте и не прячется. Таким образом, многие команды проходят игру, даже не выходя из автомобил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йдя код, участники вводят его на сайте, если он верен, получают следующее задание. Побеждает тот, кто быстрее всех побывает на всех точках. Победитель получает призовой фонд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-игры // Мозговой 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зговой штурм — виртуальная интеллектуальная игра, для прохождения которой не требуется даже выходить на улицу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у игру через интернет могут играть одновременно тысячи участников со всего мира. Участники что-нибудь угадывают, решают головоломки и ребусы или просто отвечают на вопросы. Существует множество форматов игры, но неизменно участникам приходится думать и, таким образом, развивать свой навык мышления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беждает тот, кто быстрее всех выполнит задания, ответит на вопросы. Победитель получает призовой фо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610000" cy="175284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1-12-08T11:22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